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0E0-C9C1-4F2A-94E0-AC4DFED0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4D9-1897-49A2-8BDC-7E0D9A2D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3926-2413-4571-86EA-C05E0F3C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0F0-789C-47D7-99F9-942C646D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0A5F-A58C-4A4B-B391-F90FDE52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2BB-A5F5-4D2E-9583-F16D33A4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256-AECD-4602-A25F-F657BFAB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5EA3-C7CE-4840-B301-B5701952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315-DB8A-4C22-97E0-470FB27F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499-1031-4B57-A692-B5B5FBFB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A0E-D71F-45FA-866A-B2814C34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6C2-2D62-425C-8D3B-9F287157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0160-FA63-4A2D-9A41-F990F02A5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72-year-old patient knocks on the door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the clinic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22.41, he is limp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and rai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the left trouser leg saying:</a:t>
            </a:r>
            <a:br>
              <a:rPr sz="3200"/>
            </a:b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left kne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tardet swelling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t nigh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it i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increasing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, now it's already unsustainable.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 too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racetamol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eto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ophen, bu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improvemen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 "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ntibiotic treatment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aboratory + puncture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nee exercises, laboratory + puncture nex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o shall perform knee pun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are qua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c conditions f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d a sampl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crobiolog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se purul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piration 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O ANTIBIOTIC UNTIL ASPIR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mergency laboratory inverst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0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7"/>
          <p:cNvGrpSpPr/>
          <p:nvPr/>
        </p:nvGrpSpPr>
        <p:grpSpPr>
          <a:xfrm>
            <a:off x="990720" y="1494000"/>
            <a:ext cx="7315200" cy="4678200"/>
            <a:chOff x="990720" y="1494000"/>
            <a:chExt cx="7315200" cy="4678200"/>
          </a:xfrm>
        </p:grpSpPr>
        <p:pic>
          <p:nvPicPr>
            <p:cNvPr id="69" name="Picture 5" descr="M7250378-Fluid_aspiration_for_arthritis_treatment-SPL"/>
            <p:cNvPicPr/>
            <p:nvPr/>
          </p:nvPicPr>
          <p:blipFill>
            <a:blip r:embed="rId1"/>
            <a:stretch/>
          </p:blipFill>
          <p:spPr>
            <a:xfrm>
              <a:off x="1514520" y="1494000"/>
              <a:ext cx="6410160" cy="42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6"/>
            <p:cNvSpPr/>
            <p:nvPr/>
          </p:nvSpPr>
          <p:spPr>
            <a:xfrm>
              <a:off x="990720" y="5257800"/>
              <a:ext cx="73152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ere should we refer the pat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heuma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c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ternal medicine emerg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mbulance600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oratory tes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P 150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ucocytes 11.5 with left-shift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cose 1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50 ml, turbid, viscous, yellow-brow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cometer (puncture fluid): Glucose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oult should be done with the puncture flu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nd for microbiological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nd for Gram staining, microbiological culture and microscopical exam (cryst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acroscopical evaluation for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hrow away into a special container for biological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ram stain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in 2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icrobiological culture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in 1-2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icroscopic exam (crystals):     1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ly it is 01:00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at does the pacient need at 01:00 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Arthroscopic) knee lavage and i.v. a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.v. antibiotic, knee lavage only if no improvement in a few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roral antibiotic and knee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obillisation, antibiotic after micro cultures are ob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knee-deep"/>
          <p:cNvPicPr/>
          <p:nvPr/>
        </p:nvPicPr>
        <p:blipFill>
          <a:blip r:embed="rId1"/>
          <a:stretch/>
        </p:blipFill>
        <p:spPr>
          <a:xfrm>
            <a:off x="22096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lavage, possibly arthrosc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ssible blood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.v. atb, analgesic, immobilization, coo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fter microb. results adjustment of ATB therapy (negative result does not exclude septic arthritis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peat lavage if swelling re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f 2-3 unsucsessful lavages: open arthrot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"/>
          <p:cNvPicPr/>
          <p:nvPr/>
        </p:nvPicPr>
        <p:blipFill>
          <a:blip r:embed="rId1"/>
          <a:stretch/>
        </p:blipFill>
        <p:spPr>
          <a:xfrm>
            <a:off x="2209680" y="16002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Long term consequences of </a:t>
            </a:r>
            <a:br>
              <a:rPr sz="4000"/>
            </a:b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septic arthrit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oft tissue tum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welling of other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niscus ru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tural history of septic arthritis before the advent of antibio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Joint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Bony ankylosis (fibrous in T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Sepsis, sometimes even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o ločimo septični artritis od akutne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CRP pri septičnem artriti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urat pri akutni put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 makroskopskem izgledu punk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zitivna mikrobiologija in odsotnost kristalov v punkt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o je zdravljenje akutnega napada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razgibavanje, gretje, alopur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imobilizacija, hlajenje, N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.v. atb, izpiranje kolena, hla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bijanje kristalov z UZ val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ČNI ART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če ste prespali seminar, vsaj to poslušajt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liv v sklepu + vročina ali mrzlica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m na septični art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od putičnega lahko ločimo le z mikrobiološkimi-mikroskopskimi preiskav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mergency,potentially serious 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Without patient history and exam you cannot properly treat or refer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cture/lab.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vage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.v. antibi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itfalls: not recognizing emergency, delay, peroral antibiotic, antibiotic before puncture, no la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C ARTH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4724280"/>
            <a:ext cx="8839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hank you for saving my knee. I will recommend you to for the “Best ERASMUS Student” award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4818823-happy-elderly-man-in-a-garden"/>
          <p:cNvPicPr/>
          <p:nvPr/>
        </p:nvPicPr>
        <p:blipFill>
          <a:blip r:embed="rId1"/>
          <a:stretch/>
        </p:blipFill>
        <p:spPr>
          <a:xfrm>
            <a:off x="1447920" y="0"/>
            <a:ext cx="6238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should we als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How long doe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swellin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as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For the first time in my lif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joint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 Chi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Trigger factors (trau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Spontaneous pain, night 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patient rep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nee starte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well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nigh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s getting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rs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ime knee swell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her joints O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He had a fever up to 38 °C, occasional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hill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not remember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ain at rest, even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Regularly taking insuli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should be the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p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lin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ferral for laboratory test of inflammation (next 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Clinical examination of the knee should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Inspection (measurements, comparison with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knee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Palpation (swelling, effusion or thicke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flammatio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signs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(rubor, tumor, dolor, calor, f.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Range of motion (outstretched = 0 ° of flex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eurological status of the lower extrem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point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3014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t examination you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Severely swollen left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Positive balottement (extensive effusion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ithout redness, warm, pain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The mobility of the 20 ° - 50 ° of flexion (contra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eurological status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Diffuse tenderness, without localized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lucose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(Glucometer) 12.0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g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abetes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osteoarthritis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6T04:15:25Z</dcterms:modified>
  <cp:revision>1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